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421B-678C-4691-9AB6-B28EEA0D4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D368-51C9-4E92-AD65-11D6972F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B224-7606-4894-B1DB-246E1FA47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4CBE-56F9-4627-9889-F393722F5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5B15B-A86B-4536-9440-968CBEA28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0A43C-6946-40E0-A999-D3CDC332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3223-4A41-47AF-8BDF-69EFE0DC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F8F85-E696-4CC2-BE55-5F32A88A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D986-6CE9-44E6-9431-BC80D054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D69A6-7929-43BD-AF81-C7678A22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EC485-FF32-4F51-87E9-BE3B3666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BCD4-5ABA-4177-B718-A5C3BF4E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E837-B581-4A20-A51A-FCF96A70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B17CF-DF47-4527-9CD8-7F8530DB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A0FE-A521-46B3-B06D-FAF0F400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371A-EB81-457D-B920-B8AFA4D54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A5EB-029B-4D1C-8FA2-F450EC412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07CA-B45B-4428-B376-5B777F7F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D737-C96A-4CBE-B94B-63023CA9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4562-33F6-41FC-901A-4613DE8D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546C-120F-4B4F-966E-F700E2DC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5077-74C6-4385-A13E-56D793BE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002D-57FF-4337-88CF-B70CEAFA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06DC-43D3-4B06-AB1A-47CFFCD0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A198-8B4B-4D82-97F3-8080118C81F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4C5F-B2BA-41AE-85A5-A0FBF10E835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Extraordinary Englis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Day 6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riting good senten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inue st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aw Gothic impression of hou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cu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OL-8/26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ccording to a newspaper in Franklin county ohio dog names used a lot in that county include Lady, Bear Maggie and Brandy the dogs name used the most is Max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utherford B. Hayes the nineteenth president of the United States was born in Delaware Ohio in 1822 and following a quiet dramatic election became president in March 1877 at age of 54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mnesia:Remember::___________:slee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urnful:Grief:: ____________:furiou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o French Fry Shee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kshee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inue sto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re the elements of Gothic fictio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5T18:47:03Z</dcterms:created>
  <dc:creator>VMS</dc:creator>
  <dc:description/>
  <dc:language>en-US</dc:language>
  <cp:lastModifiedBy>VMS</cp:lastModifiedBy>
  <dcterms:modified xsi:type="dcterms:W3CDTF">2009-08-25T20:11:48Z</dcterms:modified>
  <cp:revision>2</cp:revision>
  <dc:subject/>
  <dc:title>Extraordinary English</dc:title>
</cp:coreProperties>
</file>